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4DEFA-1547-4584-80A7-7D095ECC1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7B181-3982-4912-91F1-33B5AF52D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81C27-1B2F-4DBB-8C79-27FC05FEC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A03514-7C20-4BC3-8B53-B5CE6A5023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413538-05CC-4FAC-93D9-4B4EFD193D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A08F8F-A711-4E88-8AA9-E288D2DA4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73BC1D-9EA4-419D-8B20-2383DCA3C3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68B0FF-E763-4D21-91FD-CE5D1FB99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78199A-EE76-4151-BF1F-9AB740ADF2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925D5C-FA8C-4FB6-BA70-4DF97F01AD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E5A87-D223-4435-8312-CC188BEFC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A2A29-B3AB-4982-9DA0-D383FD03B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B7E25-E11E-4F46-A2FD-EB7F1C002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3CF51-56D8-45E3-A533-9D2FEA64D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BC9EBC-504C-4B2E-9C52-74048FBBCA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76D741-3215-45BA-BB4A-40079CC4FB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F24426-82AD-4D9B-BB06-7F7FD75EC6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F6DED-466F-4651-A174-E4B5EA5A6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9F914-6A52-4413-B026-086A9EE54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F7670-A9D5-41B1-B491-83416B9AF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312E1-5BCB-4173-B102-A3F33C698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E2E57-6C04-450F-A54F-CE2D214B5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FA272-9D64-4673-981F-9C90ADF9A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86A25-E32E-40F3-ABD2-CAA82C3FE6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1654E-3895-4038-BBEB-879F5E22DF5E}"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9249D-0213-477D-8B53-878AEAD71619}"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380880" y="685800"/>
            <a:ext cx="8077320" cy="5821200"/>
          </a:xfrm>
          <a:prstGeom prst="rect">
            <a:avLst/>
          </a:prstGeom>
          <a:ln w="0">
            <a:noFill/>
          </a:ln>
        </p:spPr>
      </p:pic>
      <p:sp>
        <p:nvSpPr>
          <p:cNvPr id="95" name=""/>
          <p:cNvSpPr txBox="1"/>
          <p:nvPr/>
        </p:nvSpPr>
        <p:spPr>
          <a:xfrm>
            <a:off x="533520" y="304920"/>
            <a:ext cx="76197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F-HELP SKILL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Gill Sans Ultra Bold"/>
              </a:rPr>
              <a:t>My Goals</a:t>
            </a:r>
            <a:endParaRPr b="1" lang="en-US" sz="32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Bodoni MT Black"/>
              </a:rPr>
              <a:t>To become more independent learners</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Bodoni MT Black"/>
              </a:rPr>
              <a:t>Be skilled at the different kinds of technology that will motivate my students</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Bodoni MT Black"/>
              </a:rPr>
              <a:t>Find ways to get my students to do more higher-order thinking skill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457200" y="0"/>
            <a:ext cx="9220320" cy="6888240"/>
          </a:xfrm>
          <a:prstGeom prst="rect">
            <a:avLst/>
          </a:prstGeom>
          <a:ln w="0">
            <a:noFill/>
          </a:ln>
        </p:spPr>
      </p:pic>
      <p:sp>
        <p:nvSpPr>
          <p:cNvPr id="119" name=""/>
          <p:cNvSpPr txBox="1"/>
          <p:nvPr/>
        </p:nvSpPr>
        <p:spPr>
          <a:xfrm>
            <a:off x="914400" y="2438280"/>
            <a:ext cx="800100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rPr>
              <a:t>Mission Accomplished!</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10342440" cy="7162920"/>
          </a:xfrm>
          <a:prstGeom prst="rect">
            <a:avLst/>
          </a:prstGeom>
          <a:ln w="0">
            <a:noFill/>
          </a:ln>
        </p:spPr>
      </p:pic>
      <p:pic>
        <p:nvPicPr>
          <p:cNvPr id="121" name="" descr=""/>
          <p:cNvPicPr/>
          <p:nvPr/>
        </p:nvPicPr>
        <p:blipFill>
          <a:blip r:embed="rId2"/>
          <a:stretch/>
        </p:blipFill>
        <p:spPr>
          <a:xfrm>
            <a:off x="0" y="0"/>
            <a:ext cx="3657600" cy="2925720"/>
          </a:xfrm>
          <a:prstGeom prst="rect">
            <a:avLst/>
          </a:prstGeom>
          <a:ln w="9360">
            <a:solidFill>
              <a:srgbClr val="003366"/>
            </a:solidFill>
            <a:miter/>
          </a:ln>
        </p:spPr>
      </p:pic>
      <p:sp>
        <p:nvSpPr>
          <p:cNvPr id="122" name=""/>
          <p:cNvSpPr/>
          <p:nvPr/>
        </p:nvSpPr>
        <p:spPr>
          <a:xfrm>
            <a:off x="2514600" y="6172200"/>
            <a:ext cx="5257800" cy="9144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3" name=""/>
          <p:cNvSpPr txBox="1"/>
          <p:nvPr/>
        </p:nvSpPr>
        <p:spPr>
          <a:xfrm>
            <a:off x="2971800" y="6248520"/>
            <a:ext cx="41911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Fanny Gabal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Hilary Fria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3809520" y="2361960"/>
            <a:ext cx="4876920" cy="4257720"/>
          </a:xfrm>
          <a:prstGeom prst="rect">
            <a:avLst/>
          </a:prstGeom>
          <a:noFill/>
          <a:ln w="0">
            <a:noFill/>
          </a:ln>
        </p:spPr>
        <p:txBody>
          <a:bodyPr lIns="90000" rIns="90000" tIns="46800" bIns="46800" anchor="t">
            <a:normAutofit/>
          </a:bodyPr>
          <a:p>
            <a:pPr marL="343080" indent="-3430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Bodoni MT Black"/>
              </a:rPr>
              <a:t>	</a:t>
            </a:r>
            <a:r>
              <a:rPr b="0" lang="en-US" sz="1700" spc="-1" strike="noStrike">
                <a:solidFill>
                  <a:srgbClr val="003366"/>
                </a:solidFill>
                <a:latin typeface="Bodoni MT Black"/>
              </a:rPr>
              <a:t>Children are very conscious of the things around them. Experience is the best learning that I can give to my students. My class will produce a handicraft materials, using the things they have recycled for them to see the worth of the trash and hopefully will turn into cash.  My students will create an innovative food that can amaze not only us teachers, but also his/her parents, that as early grade 1, they can now be left alone because they have learned the areas and importance of self-help skills.</a:t>
            </a:r>
            <a:endParaRPr b="0" lang="en-US" sz="1700" spc="-1" strike="noStrike">
              <a:solidFill>
                <a:srgbClr val="003366"/>
              </a:solidFill>
              <a:latin typeface="Arial"/>
            </a:endParaRPr>
          </a:p>
        </p:txBody>
      </p:sp>
      <p:pic>
        <p:nvPicPr>
          <p:cNvPr id="97" name="" descr=""/>
          <p:cNvPicPr/>
          <p:nvPr/>
        </p:nvPicPr>
        <p:blipFill>
          <a:blip r:embed="rId1"/>
          <a:stretch/>
        </p:blipFill>
        <p:spPr>
          <a:xfrm>
            <a:off x="0" y="1752480"/>
            <a:ext cx="4038480" cy="4245120"/>
          </a:xfrm>
          <a:prstGeom prst="rect">
            <a:avLst/>
          </a:prstGeom>
          <a:ln w="0">
            <a:noFill/>
          </a:ln>
        </p:spPr>
      </p:pic>
      <p:sp>
        <p:nvSpPr>
          <p:cNvPr id="98" name=""/>
          <p:cNvSpPr txBox="1"/>
          <p:nvPr/>
        </p:nvSpPr>
        <p:spPr>
          <a:xfrm>
            <a:off x="1752480" y="609480"/>
            <a:ext cx="54295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Unit Plan Summary:</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837720" y="2361960"/>
            <a:ext cx="3775320" cy="37242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0" name="PlaceHolder 2"/>
          <p:cNvSpPr>
            <a:spLocks noGrp="1"/>
          </p:cNvSpPr>
          <p:nvPr>
            <p:ph/>
          </p:nvPr>
        </p:nvSpPr>
        <p:spPr>
          <a:xfrm>
            <a:off x="4756320" y="2361960"/>
            <a:ext cx="3774960" cy="3724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doni MT Black"/>
              </a:rPr>
              <a:t>What is the importance of learning self-help?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doni MT Black"/>
              </a:rPr>
              <a:t>Is conquering our fear in cooking and cleaning possible?</a:t>
            </a:r>
            <a:endParaRPr b="0" lang="en-US" sz="2400" spc="-1" strike="noStrike">
              <a:solidFill>
                <a:srgbClr val="00336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01" name="" descr=""/>
          <p:cNvPicPr/>
          <p:nvPr/>
        </p:nvPicPr>
        <p:blipFill>
          <a:blip r:embed="rId1"/>
          <a:stretch/>
        </p:blipFill>
        <p:spPr>
          <a:xfrm>
            <a:off x="981000" y="2362320"/>
            <a:ext cx="3336840" cy="3724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457200" y="228600"/>
            <a:ext cx="8686800" cy="17524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Unit Question:</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03" name="PlaceHolder 1"/>
          <p:cNvSpPr>
            <a:spLocks noGrp="1"/>
          </p:cNvSpPr>
          <p:nvPr>
            <p:ph/>
          </p:nvPr>
        </p:nvSpPr>
        <p:spPr>
          <a:xfrm>
            <a:off x="837720" y="2361960"/>
            <a:ext cx="3775320" cy="37242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doni MT Black"/>
              </a:rPr>
              <a:t>How can we use recycled materials efficiently?</a:t>
            </a:r>
            <a:endParaRPr b="0" lang="en-US" sz="2400" spc="-1" strike="noStrike">
              <a:solidFill>
                <a:srgbClr val="00336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doni MT Black"/>
              </a:rPr>
              <a:t>Why are self-help important to us?</a:t>
            </a:r>
            <a:endParaRPr b="0" lang="en-US" sz="2400" spc="-1" strike="noStrike">
              <a:solidFill>
                <a:srgbClr val="00336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04" name="" descr=""/>
          <p:cNvPicPr/>
          <p:nvPr/>
        </p:nvPicPr>
        <p:blipFill>
          <a:blip r:embed="rId3"/>
          <a:stretch/>
        </p:blipFill>
        <p:spPr>
          <a:xfrm>
            <a:off x="5538960" y="1600200"/>
            <a:ext cx="360504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837720" y="2361960"/>
            <a:ext cx="3775320" cy="3724200"/>
          </a:xfrm>
          <a:prstGeom prst="rect">
            <a:avLst/>
          </a:prstGeom>
          <a:noFill/>
          <a:ln w="0">
            <a:noFill/>
          </a:ln>
        </p:spPr>
        <p:txBody>
          <a:bodyPr lIns="90000" rIns="90000" tIns="46800" bIns="46800" anchor="t">
            <a:normAutofit/>
          </a:bodyPr>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doni MT Black"/>
              </a:rPr>
              <a:t>What are the resources needed to create a handicraft materials? </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doni MT Black"/>
              </a:rPr>
              <a:t>What things do we need in cleaning an area? </a:t>
            </a:r>
            <a:endParaRPr b="0" lang="en-US" sz="2000" spc="-1" strike="noStrike">
              <a:solidFill>
                <a:srgbClr val="003366"/>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doni MT Black"/>
              </a:rPr>
              <a:t>How can the students create an innovative food?</a:t>
            </a:r>
            <a:endParaRPr b="0" lang="en-US" sz="2000" spc="-1" strike="noStrike">
              <a:solidFill>
                <a:srgbClr val="003366"/>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06" name="" descr=""/>
          <p:cNvPicPr/>
          <p:nvPr/>
        </p:nvPicPr>
        <p:blipFill>
          <a:blip r:embed="rId1"/>
          <a:stretch/>
        </p:blipFill>
        <p:spPr>
          <a:xfrm>
            <a:off x="5105520" y="1905120"/>
            <a:ext cx="4038480" cy="4357440"/>
          </a:xfrm>
          <a:prstGeom prst="rect">
            <a:avLst/>
          </a:prstGeom>
          <a:ln w="0">
            <a:noFill/>
          </a:ln>
        </p:spPr>
      </p:pic>
      <p:sp>
        <p:nvSpPr>
          <p:cNvPr id="107" name=""/>
          <p:cNvSpPr txBox="1"/>
          <p:nvPr/>
        </p:nvSpPr>
        <p:spPr>
          <a:xfrm>
            <a:off x="990720" y="304920"/>
            <a:ext cx="723888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Content Questio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Gill Sans Ultra Bold"/>
              </a:rPr>
              <a:t>Benefits of Using Project Approaches, Ongoing Assessment, and CFQs in My Unit</a:t>
            </a:r>
            <a:endParaRPr b="1" lang="en-US" sz="2400" spc="-1" strike="noStrike">
              <a:solidFill>
                <a:srgbClr val="006666"/>
              </a:solidFill>
              <a:latin typeface="Arial"/>
            </a:endParaRPr>
          </a:p>
        </p:txBody>
      </p:sp>
      <p:sp>
        <p:nvSpPr>
          <p:cNvPr id="10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doni MT Black"/>
              </a:rPr>
              <a:t>Students improve their Basic Life Skills.</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doni MT Black"/>
              </a:rPr>
              <a:t>Students develop Initiative and independence.</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doni MT Black"/>
              </a:rPr>
              <a:t>They can help clean the environment.</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doni MT Black"/>
              </a:rPr>
              <a:t>Students use their self-help skills to developed about something important to them inside and outside the schoo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Gill Sans Ultra Bold"/>
              </a:rPr>
              <a:t>By Using Project Approaches,</a:t>
            </a:r>
            <a:r>
              <a:rPr b="0" lang="en-US" sz="2800" spc="-1" strike="noStrike">
                <a:solidFill>
                  <a:srgbClr val="990099"/>
                </a:solidFill>
                <a:latin typeface="Gill Sans Ultra Bold"/>
              </a:rPr>
              <a:t>  Ongoing Assessment, and CFQs</a:t>
            </a:r>
            <a:endParaRPr b="1" lang="en-US" sz="28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Bodoni MT Black"/>
              </a:rPr>
              <a:t>My Students Will:</a:t>
            </a:r>
            <a:endParaRPr b="0" lang="en-US" sz="2400" spc="-1" strike="noStrike">
              <a:solidFill>
                <a:srgbClr val="00336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285840">
              <a:lnSpc>
                <a:spcPct val="100000"/>
              </a:lnSpc>
              <a:spcBef>
                <a:spcPts val="601"/>
              </a:spcBef>
              <a:buClr>
                <a:srgbClr val="003366"/>
              </a:buClr>
              <a:buSzPct val="75000"/>
              <a:buFont typeface="Bodoni MT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doni MT Black"/>
              </a:rPr>
              <a:t>Experience  for a real situation and use their self-help skills to develop their learning strategies.</a:t>
            </a:r>
            <a:endParaRPr b="0" lang="en-US" sz="2400" spc="-1" strike="noStrike">
              <a:solidFill>
                <a:srgbClr val="00336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285840">
              <a:lnSpc>
                <a:spcPct val="100000"/>
              </a:lnSpc>
              <a:spcBef>
                <a:spcPts val="601"/>
              </a:spcBef>
              <a:buClr>
                <a:srgbClr val="003366"/>
              </a:buClr>
              <a:buSzPct val="75000"/>
              <a:buFont typeface="Bodoni MT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doni MT Black"/>
              </a:rPr>
              <a:t>achieve self-independence that they will apply for their daily living.</a:t>
            </a:r>
            <a:endParaRPr b="0" lang="en-US" sz="2400" spc="-1" strike="noStrike">
              <a:solidFill>
                <a:srgbClr val="00336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Gill Sans Ultra Bold"/>
              </a:rPr>
              <a:t>Gauging Student Needs Assessment</a:t>
            </a:r>
            <a:endParaRPr b="1" lang="en-US" sz="24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doni MT Black"/>
              </a:rPr>
              <a:t>I will use my Essential and Unit Questions to:</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doni MT Black"/>
              </a:rPr>
              <a:t>Focus on the real life situation that the student will appreciate in the future</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doni MT Black"/>
              </a:rPr>
              <a:t>Find out what students want or don’t want in innovating things.</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doni MT Black"/>
              </a:rPr>
              <a:t>Prepare  activities in which they will try to answer their own questions.</a:t>
            </a:r>
            <a:endParaRPr b="0" lang="en-US" sz="2400" spc="-1" strike="noStrike">
              <a:solidFill>
                <a:srgbClr val="00336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Gill Sans Ultra Bold"/>
              </a:rPr>
              <a:t>Gauging Student Needs Assessment</a:t>
            </a:r>
            <a:endParaRPr b="1" lang="en-US" sz="28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Bodoni MT Black"/>
              </a:rPr>
              <a:t>What my students will gain from the assessmen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285840">
              <a:lnSpc>
                <a:spcPct val="100000"/>
              </a:lnSpc>
              <a:spcBef>
                <a:spcPts val="601"/>
              </a:spcBef>
              <a:buClr>
                <a:srgbClr val="003366"/>
              </a:buClr>
              <a:buSzPct val="75000"/>
              <a:buFont typeface="Bodoni MT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doni MT Black"/>
              </a:rPr>
              <a:t>An articulation of their skills in making good assessment.</a:t>
            </a:r>
            <a:endParaRPr b="0" lang="en-US" sz="2400" spc="-1" strike="noStrike">
              <a:solidFill>
                <a:srgbClr val="003366"/>
              </a:solidFill>
              <a:latin typeface="Arial"/>
            </a:endParaRPr>
          </a:p>
          <a:p>
            <a:pPr lvl="1" marL="743040" indent="-285840">
              <a:lnSpc>
                <a:spcPct val="100000"/>
              </a:lnSpc>
              <a:spcBef>
                <a:spcPts val="601"/>
              </a:spcBef>
              <a:buClr>
                <a:srgbClr val="003366"/>
              </a:buClr>
              <a:buSzPct val="75000"/>
              <a:buFont typeface="Bodoni MT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doni MT Black"/>
              </a:rPr>
              <a:t>A chance to set goals in making the outcome activity.</a:t>
            </a:r>
            <a:endParaRPr b="0" lang="en-US" sz="2400" spc="-1" strike="noStrike">
              <a:solidFill>
                <a:srgbClr val="003366"/>
              </a:solidFill>
              <a:latin typeface="Arial"/>
            </a:endParaRPr>
          </a:p>
          <a:p>
            <a:pPr lvl="1" marL="743040" indent="-285840">
              <a:lnSpc>
                <a:spcPct val="100000"/>
              </a:lnSpc>
              <a:spcBef>
                <a:spcPts val="601"/>
              </a:spcBef>
              <a:buClr>
                <a:srgbClr val="003366"/>
              </a:buClr>
              <a:buSzPct val="75000"/>
              <a:buFont typeface="Bodoni MT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doni MT Black"/>
              </a:rPr>
              <a:t>Apply all self development skills.</a:t>
            </a:r>
            <a:endParaRPr b="0" lang="en-US" sz="2400" spc="-1" strike="noStrike">
              <a:solidFill>
                <a:srgbClr val="00336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1T19:36:27Z</dcterms:created>
  <dc:creator>nave1386</dc:creator>
  <dc:description/>
  <dc:language>en-US</dc:language>
  <cp:lastModifiedBy>nave1386</cp:lastModifiedBy>
  <dcterms:modified xsi:type="dcterms:W3CDTF">2010-09-02T20:19:14Z</dcterms:modified>
  <cp:revision>7</cp:revision>
  <dc:subject/>
  <dc:title>Slide 1</dc:title>
</cp:coreProperties>
</file>